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2702-2284-45CE-952D-B5B86189D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an idea – we can choose any design or the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A203-ED58-4576-A920-427D9D3C4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05C1-F19B-421F-87E5-9700BA2C8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F410-69A1-4BBB-9D59-217922416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2DAD-7C6A-4CFE-BA2E-D145EDECE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90E6-37AD-4031-AE36-CBC53998C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F462-228A-4D1E-B188-A45B8A5F2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F3F0-2E2E-4515-A031-52B50330C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766E-1B4F-4A32-9E6C-DEFF2B4B8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ADC6-0F26-42FE-8F96-B8F93AB10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don’t know if we want to use this, but I thought it looked cool and it has a lot of good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7398-BCCC-4D3C-B247-A399DC75A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50ED-BDC6-4C0D-A796-E576A9A7E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A7C3-B775-4E24-B20F-F1FFA2A3E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15A-A1D3-423D-B50D-9EA3EC1F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0447-88AD-46FC-A7F5-20286D30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497-A619-48B9-9A2C-5A3218F8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CAB-1EDF-40D1-9874-AFAE677F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2D76-5172-4FFB-A12D-5ED245A3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66BF-27C0-4A1D-BCC2-FF37CD39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5A05-B7D4-4832-861C-3B60D616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79AB-E6B8-441E-8523-FFBBCC72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98C3-411D-4EF4-86E5-59C31D59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7C61-9A58-4ED3-80B0-43BF9535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F6B8-9B15-4E26-9B64-41413777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CEF-09EB-4CEB-BD54-87D40874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FBB9-62E9-4029-B92C-2AFABFA4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37F2-2610-443B-907B-04689ECE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F588-2E30-4DD5-95F5-AF7792CD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22C9-FDCF-4F2C-9352-0EDF5640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5D9B-C7CC-454A-A47B-84FD0DCD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29142E-3E79-4730-8386-5EB6BE29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3C3039-C5E2-4875-A0A1-DA7A964C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EB625-4485-47C3-8092-BDA3E94E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43BC97-79CD-4783-AAD9-0F19DD5D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5AF23-A665-49B2-97B1-8ECEAB09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0AA6-FE43-4DD4-9D4A-296903E2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0D353-FD30-43A8-814A-D8EF8C21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4E620-7D75-4856-9333-ACBEBF73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E813C-9E81-4FBA-9FCA-547D5548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80B7F-4B68-4A31-A767-C1D51D7A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AA8E8-92B8-4ABA-9879-882EECC4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8D672-AA95-4C91-89E2-31CE0AFC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64620-C852-4E73-9AD2-293C6F69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BD61AD-B79C-4239-8ACB-3AA76063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F319D1-CDC8-41E1-9941-7135B2C6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4689AE-C63F-46CB-BAB8-40E1D52E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B885-5B94-49B7-958C-3EAEF6DB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DE3D67-48F4-49F6-9A96-06A10102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63948F-9140-402F-9FCE-93658F11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7A9480-9F48-4F6C-B3CD-7F6FC66E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03A033-319E-47A5-B86F-5129761A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5141A3-7EDE-4B12-B06B-5F98E0F3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9F933F-6B63-4E53-B1B3-2C3C4698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F96C61-3019-41DE-AD10-03EE2746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0B1BEE-DE6C-4C4D-BBEF-40C8FCAA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05887-B308-49CC-8052-65DF18F9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47812-5564-4FD0-B864-C090225E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6D4-C148-415F-B5F9-92483B0C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3EFC40-83F5-4593-A73E-A76D3C38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3FBFA-441D-4125-BFDE-6B60DCBB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C08CDF-06B1-4936-AD94-2901EDE4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6CF4FB-07ED-4229-A6AC-13956D1A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123E7F-D23A-43F1-A754-7631E580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9F01DE-0855-40F0-988A-2233B99C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E2B1E-69E5-47E4-8F9E-4DD8949D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84E44-D068-4542-8635-65CDB274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3F36A2-1DF2-40DB-B6F3-DE61C2B8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384961-1515-4014-BE0D-3B13C9BA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8610-BA17-4D51-AF07-E9D49B84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F4A86-0748-4826-A905-40FF35A3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D383E-CEF7-452F-A23E-6765BD66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2EEAD-FFAA-40E5-89F2-AC5C43E0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FB904-3BDA-4D55-835F-BA6F8FBE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8F94F-70BB-409B-8823-04822ABB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C7017-EAF9-49E2-BC8A-5E638C81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BCDBA-0326-440E-B70E-7537630E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F5FEE-9CC6-4536-82FE-44ED73A8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0DD0E-7B29-4A76-BC26-94F834E9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7CAC9-72C1-4466-956B-9D03ABD9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A7FF-3F63-4773-86FF-CFF6BC68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9E351-EBDD-4EEC-8608-42FCE263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2CD33-37BA-467E-A00A-3D5492AD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238E6-09EE-4A8D-8BF4-7DF3376D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8DF5B5-818A-42A7-834F-DFEE7418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C70434-53CE-4FF8-A24A-72BB02A0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3959FB-00B3-42CD-9426-24D28A6D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EA3DA4-DAF2-466B-9ADB-0318586E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D02856-18A4-4416-871B-20DBAB3D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FF6D57-8C2A-4664-8F5C-8F16CA21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628B6D-B168-4E21-92FA-972630CF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ABB-EF05-44BD-82D0-2E1E6BBB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69ECE7-376F-429C-8AD9-7F31E5D9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5EAF29-47A0-48F3-B62E-955AB066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9C286A-D323-4A4B-A33F-9124006E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708F6E-4E86-401F-A72F-76C2A6D0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888E82-3530-4743-BEDF-00D98A5C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80303-BF29-4D4C-A32F-018A6A3D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B1714-1DE7-488A-A664-A196C2A1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74A10-ECF3-42FC-A24A-0FE39B44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05602-F8B3-45D9-8FEB-DF73CDDD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1584F-3961-4225-A372-61917D16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CDB-DD88-4424-B622-409D3380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980B3-A900-4A26-9C3A-CF4714A3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E371A-F5C6-47F5-9E47-C5F58250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BE84C-8151-4DC6-A8E9-F5423DF0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F4AFD-6BB8-4326-8F1A-45F49243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AA700-78C4-4822-A319-91ABFCF3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893A9-8BCB-48BD-A5F0-076CB7EB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EC187-02BD-4C2E-8E3D-53C6DCAB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D220-C8E0-485E-888E-608958AF88F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E31B-A71E-4754-BA4E-17C532F2EF67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D25C-C139-48AE-968B-7B1369BFEC2B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3F40-56D6-462C-8133-B807C28C6E7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DEA4-8B70-437C-8BD4-20474C4C7C5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FA05-30EC-4940-BA4C-A3B95D151443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31F2-6B57-4D97-A6E8-BB6516AB9C8C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AAF7-FA5C-41A5-86C0-76A64991B96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tephenslighthouse.sirsidynix.com/archives/2009/02/measuring_libr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SIRSI DYNIX SYMPHON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e library automation system we need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Notable Features:</a:t>
            </a:r>
            <a:br>
              <a:rPr sz="4400"/>
            </a:br>
            <a:r>
              <a:rPr b="0" lang="en-US" sz="4400" spc="-1" strike="noStrike">
                <a:solidFill>
                  <a:srgbClr val="dd8047"/>
                </a:solidFill>
                <a:latin typeface="Tw Cen MT"/>
              </a:rPr>
              <a:t>ChiliFres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hiliFresh Review Engine: a complete social network embedded directly in a library's catalog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Embed patron-written book reviews directly into catalog recor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ncorporate a number of social networking features such as: profiles, content lists, chat and messaging options, and forums for book discussio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Users will utilize these features from The Bookshelf and will be able to gather and make reviews on favorite work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Recommendations and suggestions from friends and other users with related interests can be accessed from The Bookshelf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Notable Features:</a:t>
            </a:r>
            <a:br>
              <a:rPr sz="4400"/>
            </a:b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dd8047"/>
                </a:solidFill>
                <a:latin typeface="Tw Cen MT"/>
              </a:rPr>
              <a:t>InfOhio (SchoolRoom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he statewide library network in Ohio, INFOhio, and SirsiDynix launched a new learning site with an assortment of resourc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 of these resources are available from one single port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choolRooms has 70 rooms full of educational material where students can find information on almost any topic they are looking for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eachers, students, and even parents have access to these room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Every INFOhio automated school has access to this port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bram, S. (2009, February 23). 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Measuring libraries.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Stephen's Lighthouse [Blog]. Retrieved July 2, 2009 from </a:t>
            </a:r>
            <a:r>
              <a:rPr b="0" lang="en-US" sz="16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stephenslighthouse.sirsidynix.com/archives/2009/02/measuring_libra.html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Hadro, J. (2009, January). SirsiDynix Adds Chilifresh Engine. Library Journal, 2009 (issue 1). Retrieved June 30, 2009, from http://www.libraryjournal.com/article/CA6625166.html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Hadro, J. (2008, October 15). 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Director's station for usage stats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. Library Journal. Retrieved July 2, 2009, from http://www.libraryjournal.com/article/CA6602837.html?industryid=4712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Hadro, J. (2008, November 1). Updates emerge from SirsiDynix. Library Journal. Retrieved July 2, 2009 from http://www.libraryjournal.com/article/CA6606474.html?industryid=47125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irsiDynix. (2007, June 23). 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SirsiDynix introduces SirsiDynix Symphony as new integrated library system.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Retrieved July 2, 2009, from Library Technology Guides: http://www.librarytechnology.org/ltg-displayarticle.pl?RC=126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irsiDynix (2008, December 2). SirsiDynix StaffWeb brochure. Retrieved July 6, 2009, from www.sirsidynix.com/Resources/Pdfs/Solutions/Products/StaffWeb.pdf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talog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rsiDynix StaffWeb has cataloging abilities that support library staff in maintaining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itle and copy reco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 or maintain title, copy, and MARC record information for a tit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ows for cataloging reports for lost or missing reports, reading programs, and shelf lis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irc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65680" y="1600200"/>
            <a:ext cx="400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PocketCirc is a wireless handheld device that allows library staff to: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onduct daily circulation procedures 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nventory projects both online and offlin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 without having to be at a desktop worksta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rcRect l="15235" t="5689" r="0" b="9516"/>
          <a:stretch/>
        </p:blipFill>
        <p:spPr>
          <a:xfrm>
            <a:off x="304920" y="2362320"/>
            <a:ext cx="43052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irc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StaffWeb has circulation abilities to support library staff in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hecking copies in and out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creening the status of copi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Placing hol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Maintaining and screening patron account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dding short title recor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s for the following circulation reports: copies on loan, copies on hold, copy status, copies in transit, fine list, and overdue lis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por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ly effective decision making too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ability to customize the reports to fit our nee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program comes with more than 600 standard reports and utiliti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port Capabilit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llection analys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termine if the library holdings support the curriculum of the schoo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eriodically determine the age of the colle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erials collection evalua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cquisitions budg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etermine at any point in time the state of the budget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ircul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etermine usage of the collection, including overall numbers and statistics for particular subject area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44360" y="152280"/>
            <a:ext cx="8825040" cy="6529680"/>
          </a:xfrm>
          <a:prstGeom prst="rect">
            <a:avLst/>
          </a:prstGeom>
          <a:ln w="0">
            <a:noFill/>
          </a:ln>
        </p:spPr>
      </p:pic>
      <p:sp>
        <p:nvSpPr>
          <p:cNvPr id="371" name="TextBox 9"/>
          <p:cNvSpPr/>
          <p:nvPr/>
        </p:nvSpPr>
        <p:spPr>
          <a:xfrm>
            <a:off x="1143000" y="648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www.sirsidynix.com/Solutions/Products/integratedsystems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atr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Symphony with the assistance of the PocketCirc benefits out patrons by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ing new users to be registered on the spot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ontinue helping patrons when network problems or power outages occur -- Circulation tasks can be completed in offline mode and uploaded at a later tim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s patrons to be assisted in finding materials and then receive on-the-spot checkou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ana Shared Catalo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s a SirsiDynix syst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b bas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re than 80 libraries in Montana particip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ublic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chool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cademic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dical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pecial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9:46:36Z</dcterms:created>
  <dc:creator>lisa brennan</dc:creator>
  <dc:description/>
  <dc:language>en-US</dc:language>
  <cp:lastModifiedBy>lisa brennan</cp:lastModifiedBy>
  <dcterms:modified xsi:type="dcterms:W3CDTF">2009-07-08T21:46:23Z</dcterms:modified>
  <cp:revision>13</cp:revision>
  <dc:subject/>
  <dc:title>Slide 1</dc:title>
</cp:coreProperties>
</file>